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6994-7632-4CDA-9BB3-8994597A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350D-F910-4219-9CE7-9CC1955B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3196-E175-4281-A21A-6295C15B2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E56D-92FA-40AC-889B-F78B115EB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3EAB-618B-478C-B092-C6611F6B7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3080E-DA4C-4022-8972-E3901FDE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0C30-604C-4108-B86F-3AFE15CFF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BDB4-34FA-46EC-A64B-0EA2BF9F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593C-0EE1-4907-BC58-23916AB51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7FBD9-C1F8-4FDC-9B81-163CB68A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0A6CC-2FDA-499B-9766-928379B5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DD00-62DE-412A-A876-69B7D9873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3110C-BF85-4E1F-93B4-37A6A739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90A8-2D55-4955-B9E0-D2ABA7B84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D84B-FD9F-41B7-82F3-1CE793855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39DEC-47E4-47F7-B9B9-FFDF2CB2E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0F91B-9477-4927-86E8-4B981DABB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CEF961-AE95-4784-9195-083218C6B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9BF0A-6873-4444-BDCD-2D54EEDB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E4407-9CAA-4DDA-809D-3B91CB522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ED49-C9F7-423D-B02F-7394113C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F5601-5D82-4B64-8E86-EB1C9090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610-B075-459D-8F09-599C36188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8F020-A9C1-4DAE-AF12-216BE423A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E81D-91F8-4F9D-A353-6D70E4240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C8564-4413-4CE4-8455-D3FB59A7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70D4F-7122-47E6-8898-92913711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72039-54D9-454C-8BA4-2AF82651C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0DFDC-A0DF-4907-9357-6F2C8FCA0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62D2D-33A9-48CA-84EB-CCE6C1077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96B33-288C-4D32-81A3-F8BB87BE8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3221F-5863-48D3-B1A4-606EB1CD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375A8-D725-42A3-80B9-F06EE1E8B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B181-BBD6-44E3-B2FF-E0E0A0DC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DE082-CFE8-4755-81CE-45641DFD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E3FA1-A8C8-47D2-AD82-ABBE59EB5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353A8-9259-4374-8575-6BB44D601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2EA500-BAC5-4A9F-9A05-3F3CAE26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B7C9A-4F55-4A2A-8518-B7CA7C9B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9B332-E8D2-4D92-925E-F7A7B0A26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D04969-201D-449D-9DA5-E088FDCE7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25F49-514D-431E-9612-63FC29772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B939A6-871E-466E-88A8-74240908F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A6982-C00A-460B-B8C2-5A04610AF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944-6706-41B4-BBD8-74979F3E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C5DB7-0DB3-400F-ACD4-C2FF55CA2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7053C-0591-4B21-B388-70F655313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3197D-FF11-4362-B2E9-5F120D778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F40D6-AF88-4249-9573-8315F51C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C56F8-C24C-4E29-9651-1720665C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ABC977-B764-43E3-8ACF-59620B6AB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5D1B8B-B651-49C3-9C21-961D4079A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5C1C8-6E7B-4CBE-AB15-DF3037C5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5088DC-5594-4B6F-B0CA-70748A31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459C4-79FD-493B-A086-21F9E79D5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930B-C687-4315-94AB-C2D148E7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5ED627-AC8E-41C6-A6C6-1AB5EFCA2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E15C8-91DC-4481-8A4B-49DF1220C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65C8D-91B4-4450-9972-E14992654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D24432-C29D-4143-88AF-7F15759F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59CF6-9688-4B2B-B306-2508916E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E5C6FE-F87D-4260-B340-EFE1704E3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5DA82-68D4-4E25-916E-56551AE98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E4D71-BCE3-45BF-BA50-C3758D2F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A5AF5-AE94-4B21-AB13-083143AF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BE65F-064B-42B9-8EE5-DE5ACDA63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BEFA-FCA8-491C-9980-BAE6BF63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038FF-5ABD-43D6-BF1E-9898A4676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CBE118-CEBC-4B7F-9EA3-02195369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C648C-34B3-40B4-BB28-14A3E45C9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25DB4F-47C3-4DE0-8529-9B3BC6DA4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4C1C89-C141-4549-93B6-3421B6A3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7A268-A29E-488D-B0C1-037C12A54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1FE1BB-A5E5-4333-AE5C-817E046E9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EE6F00-3562-4F6B-842A-1272FA56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494F11-8D48-4454-BF31-B2FCE1C91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238ED-8F56-48EE-B34C-CE69263B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57D-8EAB-417F-BF5B-D10520F5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E69C07-9606-40C2-9B4D-AD674DD6C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C943C-E15C-42D8-85F3-9B975015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165C2D-7C75-489D-91CC-C378F10F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19139-784B-4190-87B0-54E40FA71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3166AF-1B0B-4289-83F7-76177195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5CB52-5737-4059-8530-B858D492C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1F3C8-8728-42E1-B67F-F38CCF9D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7F1A-D4CC-4745-ACA1-DAD7D19B4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993A8-2168-40D8-A63D-C5D1DCCE2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C6BFF9-D5EA-42C4-8484-1994B561F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82E9-F83C-4813-8B0F-729DA7E2A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CF5608-E7BA-416F-B918-B002324B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1BE2BA-DB75-4BF9-9DDC-ED85B6D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51B9C8-C2A6-4309-A19A-989AFE9F3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4A9AD-F61B-4FAA-822E-434DBAFAE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E76DE0-BD53-495B-9B4B-41BEF3BF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782DE-2B84-4EEF-A0D9-AACEDAF8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9041E4-7578-45D1-A30B-C61184798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E39A6-D670-41BF-8F5F-5CA596C6B5C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890000"/>
              </a:gs>
              <a:gs pos="50000">
                <a:srgbClr val="cd4e4b"/>
              </a:gs>
              <a:gs pos="100000">
                <a:srgbClr val="890000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d2a09f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B2F9-B886-449C-9F9B-9A961EEFAB2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08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9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DAC-BDEB-4957-92CD-DD8E782FB11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53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D702A-38F2-41C7-AAF2-27FE8BFBBB2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00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1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03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F2FF-F59E-4BCC-BD3D-B90907DE775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4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4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5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AD641-F1C5-4FF1-B550-2EB7B5FB177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9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9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795339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795339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1042-C354-4E36-AC44-DCE21E113E9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4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5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d2a09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47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8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50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5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97160f"/>
              </a:gs>
              <a:gs pos="100000">
                <a:srgbClr val="cf8280"/>
              </a:gs>
            </a:gsLst>
            <a:lin ang="16200000"/>
          </a:gradFill>
          <a:ln cap="rnd" w="3240">
            <a:solidFill>
              <a:srgbClr val="7e1f1a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7eed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f7eedd"/>
              </a:solidFill>
              <a:latin typeface="Lucida Sans Unicode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3f3d6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87311-B070-4FCC-9850-972E98A817C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689040" y="1755720"/>
            <a:ext cx="8192880" cy="216396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795339"/>
                </a:solidFill>
                <a:latin typeface="Lucida Sans Unicode"/>
              </a:rPr>
              <a:t>2nd Year</a:t>
            </a:r>
            <a:r>
              <a:rPr b="0" lang="es-ES_tradnl" sz="2700" spc="-1" strike="noStrike">
                <a:solidFill>
                  <a:srgbClr val="795339"/>
                </a:solidFill>
                <a:latin typeface="Lucida Sans Unicode"/>
              </a:rPr>
              <a:t>	</a:t>
            </a:r>
            <a:r>
              <a:rPr b="0" lang="es-ES_tradnl" sz="2700" spc="-1" strike="noStrike">
                <a:solidFill>
                  <a:srgbClr val="795339"/>
                </a:solidFill>
                <a:latin typeface="Lucida Sans Unicode"/>
              </a:rPr>
              <a:t>6.2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6840" y="1294920"/>
            <a:ext cx="838188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is farm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 muy vie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ta granja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ese pigs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án en el corral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tos cerd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at rooster (far away)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 está encima de la cerc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Aquel gallo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ose farmers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trabajan mucho.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os ganadero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ose hens </a:t>
            </a: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án debajo del árbol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f3d66"/>
                </a:solidFill>
                <a:latin typeface="Lucida Sans Unicode"/>
              </a:rPr>
              <a:t>Esas gallinas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7" name="Title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82296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8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8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800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8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800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800" fill="hold"/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800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8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8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800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8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800" fill="hold"/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7985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ese horses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son más bonitos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.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os caballos , éso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is pig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es más gordo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at one (far away)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e cerdo, aquél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Me gustan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ese cows,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pero no me gustan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as vacas, ésa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is class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es más fácil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.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ta clase, és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 students </a:t>
            </a:r>
            <a:r>
              <a:rPr b="0" lang="es-ES_tradnl" sz="2500" spc="-1" strike="noStrike">
                <a:solidFill>
                  <a:srgbClr val="ad2e27"/>
                </a:solidFill>
                <a:latin typeface="Lucida Sans Unicode"/>
              </a:rPr>
              <a:t>son más altos que </a:t>
            </a:r>
            <a:r>
              <a:rPr b="0" lang="es-ES_tradnl" sz="2500" spc="-1" strike="noStrike">
                <a:solidFill>
                  <a:srgbClr val="000000"/>
                </a:solidFill>
                <a:latin typeface="Lucida Sans Unicode"/>
              </a:rPr>
              <a:t>those (far away)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3f3d66"/>
                </a:solidFill>
                <a:latin typeface="Lucida Sans Unicode"/>
              </a:rPr>
              <a:t>Esos estudiantes, aquéllos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99" name="Title 1" descr=""/>
          <p:cNvPicPr/>
          <p:nvPr/>
        </p:nvPicPr>
        <p:blipFill>
          <a:blip r:embed="rId1"/>
          <a:stretch/>
        </p:blipFill>
        <p:spPr>
          <a:xfrm>
            <a:off x="457200" y="-23760"/>
            <a:ext cx="8229600" cy="18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Picture 19" descr="http://t0.gstatic.com/images?q=tbn:ANd9GcRV5leoA0Q87Cb9R5tNVd-UQj7Z4zQoc35ZSbsTmeAi7bOkyPDhNA"/>
          <p:cNvPicPr/>
          <p:nvPr/>
        </p:nvPicPr>
        <p:blipFill>
          <a:blip r:embed="rId1"/>
          <a:stretch/>
        </p:blipFill>
        <p:spPr>
          <a:xfrm>
            <a:off x="304920" y="3276720"/>
            <a:ext cx="4267080" cy="3417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5" descr="http://t0.gstatic.com/images?q=tbn:ANd9GcRV5leoA0Q87Cb9R5tNVd-UQj7Z4zQoc35ZSbsTmeAi7bOkyPDhNA"/>
          <p:cNvPicPr/>
          <p:nvPr/>
        </p:nvPicPr>
        <p:blipFill>
          <a:blip r:embed="rId2"/>
          <a:stretch/>
        </p:blipFill>
        <p:spPr>
          <a:xfrm>
            <a:off x="2514600" y="1143000"/>
            <a:ext cx="3076560" cy="24638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http://t0.gstatic.com/images?q=tbn:ANd9GcRV5leoA0Q87Cb9R5tNVd-UQj7Z4zQoc35ZSbsTmeAi7bOkyPDhNA"/>
          <p:cNvPicPr/>
          <p:nvPr/>
        </p:nvPicPr>
        <p:blipFill>
          <a:blip r:embed="rId3"/>
          <a:stretch/>
        </p:blipFill>
        <p:spPr>
          <a:xfrm>
            <a:off x="5410080" y="0"/>
            <a:ext cx="2094120" cy="1676520"/>
          </a:xfrm>
          <a:prstGeom prst="rect">
            <a:avLst/>
          </a:prstGeom>
          <a:ln w="0">
            <a:noFill/>
          </a:ln>
        </p:spPr>
      </p:pic>
      <p:pic>
        <p:nvPicPr>
          <p:cNvPr id="403" name="Title 1" descr=""/>
          <p:cNvPicPr/>
          <p:nvPr/>
        </p:nvPicPr>
        <p:blipFill>
          <a:blip r:embed="rId4"/>
          <a:stretch/>
        </p:blipFill>
        <p:spPr>
          <a:xfrm>
            <a:off x="-1066680" y="-536400"/>
            <a:ext cx="7772400" cy="2597040"/>
          </a:xfrm>
          <a:prstGeom prst="rect">
            <a:avLst/>
          </a:prstGeom>
          <a:ln w="0">
            <a:noFill/>
          </a:ln>
        </p:spPr>
      </p:pic>
      <p:sp>
        <p:nvSpPr>
          <p:cNvPr id="404" name="Title 1"/>
          <p:cNvSpPr/>
          <p:nvPr/>
        </p:nvSpPr>
        <p:spPr>
          <a:xfrm>
            <a:off x="5562720" y="2743200"/>
            <a:ext cx="2133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Title 1"/>
          <p:cNvSpPr/>
          <p:nvPr/>
        </p:nvSpPr>
        <p:spPr>
          <a:xfrm>
            <a:off x="7391520" y="8380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4191120" y="5748480"/>
            <a:ext cx="30477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is Hor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te cabal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Content Placeholder 1"/>
          <p:cNvSpPr/>
          <p:nvPr/>
        </p:nvSpPr>
        <p:spPr>
          <a:xfrm>
            <a:off x="5181480" y="2971800"/>
            <a:ext cx="30481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at Hors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e caballo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8" name="Content Placeholder 1"/>
          <p:cNvSpPr/>
          <p:nvPr/>
        </p:nvSpPr>
        <p:spPr>
          <a:xfrm>
            <a:off x="7086600" y="1176480"/>
            <a:ext cx="22860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That Hors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(over ther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95339"/>
                </a:solidFill>
                <a:latin typeface="Lucida Sans Unicode"/>
              </a:rPr>
              <a:t>Aquel caballo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9" name="Title 1" descr=""/>
          <p:cNvPicPr/>
          <p:nvPr/>
        </p:nvPicPr>
        <p:blipFill>
          <a:blip r:embed="rId5"/>
          <a:stretch/>
        </p:blipFill>
        <p:spPr>
          <a:xfrm>
            <a:off x="0" y="1755720"/>
            <a:ext cx="2743200" cy="15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4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Title 1" descr=""/>
          <p:cNvPicPr/>
          <p:nvPr/>
        </p:nvPicPr>
        <p:blipFill>
          <a:blip r:embed="rId1"/>
          <a:stretch/>
        </p:blipFill>
        <p:spPr>
          <a:xfrm>
            <a:off x="-1066680" y="-536400"/>
            <a:ext cx="7772400" cy="2597040"/>
          </a:xfrm>
          <a:prstGeom prst="rect">
            <a:avLst/>
          </a:prstGeom>
          <a:ln w="0">
            <a:noFill/>
          </a:ln>
        </p:spPr>
      </p:pic>
      <p:sp>
        <p:nvSpPr>
          <p:cNvPr id="411" name="Title 1"/>
          <p:cNvSpPr/>
          <p:nvPr/>
        </p:nvSpPr>
        <p:spPr>
          <a:xfrm>
            <a:off x="5562720" y="2743200"/>
            <a:ext cx="2133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Title 1"/>
          <p:cNvSpPr/>
          <p:nvPr/>
        </p:nvSpPr>
        <p:spPr>
          <a:xfrm>
            <a:off x="7391520" y="838080"/>
            <a:ext cx="16002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191120" y="5748480"/>
            <a:ext cx="3047760" cy="15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is h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ta gall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Content Placeholder 1"/>
          <p:cNvSpPr/>
          <p:nvPr/>
        </p:nvSpPr>
        <p:spPr>
          <a:xfrm>
            <a:off x="5715000" y="3462480"/>
            <a:ext cx="30481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ad2e27"/>
                </a:solidFill>
                <a:latin typeface="Lucida Sans Unicode"/>
              </a:rPr>
              <a:t>That Hen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795339"/>
                </a:solidFill>
                <a:latin typeface="Lucida Sans Unicode"/>
              </a:rPr>
              <a:t>Esa gallina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5" name="Content Placeholder 1"/>
          <p:cNvSpPr/>
          <p:nvPr/>
        </p:nvSpPr>
        <p:spPr>
          <a:xfrm>
            <a:off x="7086600" y="1176480"/>
            <a:ext cx="228600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That hen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ad2e27"/>
                </a:solidFill>
                <a:latin typeface="Lucida Sans Unicode"/>
              </a:rPr>
              <a:t>(over there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795339"/>
                </a:solidFill>
                <a:latin typeface="Lucida Sans Unicode"/>
              </a:rPr>
              <a:t>Aquella gallina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6" name="Picture 2" descr="C:\Users\Heather\AppData\Local\Microsoft\Windows\Temporary Internet Files\Content.IE5\8ZF8A40X\MP900441050[1].jpg"/>
          <p:cNvPicPr/>
          <p:nvPr/>
        </p:nvPicPr>
        <p:blipFill>
          <a:blip r:embed="rId2"/>
          <a:stretch/>
        </p:blipFill>
        <p:spPr>
          <a:xfrm>
            <a:off x="304920" y="1600200"/>
            <a:ext cx="4005000" cy="494676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2" descr="C:\Users\Heather\AppData\Local\Microsoft\Windows\Temporary Internet Files\Content.IE5\8ZF8A40X\MP900441050[1].jpg"/>
          <p:cNvPicPr/>
          <p:nvPr/>
        </p:nvPicPr>
        <p:blipFill>
          <a:blip r:embed="rId3"/>
          <a:stretch/>
        </p:blipFill>
        <p:spPr>
          <a:xfrm>
            <a:off x="3809880" y="1371600"/>
            <a:ext cx="2406600" cy="297180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2" descr="C:\Users\Heather\AppData\Local\Microsoft\Windows\Temporary Internet Files\Content.IE5\8ZF8A40X\MP900441050[1].jpg"/>
          <p:cNvPicPr/>
          <p:nvPr/>
        </p:nvPicPr>
        <p:blipFill>
          <a:blip r:embed="rId4"/>
          <a:stretch/>
        </p:blipFill>
        <p:spPr>
          <a:xfrm>
            <a:off x="6095880" y="0"/>
            <a:ext cx="1371600" cy="1693800"/>
          </a:xfrm>
          <a:prstGeom prst="rect">
            <a:avLst/>
          </a:prstGeom>
          <a:ln w="0">
            <a:noFill/>
          </a:ln>
        </p:spPr>
      </p:pic>
      <p:pic>
        <p:nvPicPr>
          <p:cNvPr id="419" name="Title 1" descr=""/>
          <p:cNvPicPr/>
          <p:nvPr/>
        </p:nvPicPr>
        <p:blipFill>
          <a:blip r:embed="rId5"/>
          <a:stretch/>
        </p:blipFill>
        <p:spPr>
          <a:xfrm>
            <a:off x="-384120" y="1676520"/>
            <a:ext cx="2749320" cy="160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4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0" fill="hold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 txBox="1"/>
          <p:nvPr/>
        </p:nvSpPr>
        <p:spPr>
          <a:xfrm>
            <a:off x="228600" y="148104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is fence is bigger (more big) than that on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a cerca es más grande que és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ese artisans (m.) are shorter than those (far away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os artesanos son más bajos que aquéllo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ese scissors are smaller (more small)  than those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tas tijeras son más pequeñas que ésas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ad2e27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Lucida Sans Unicode"/>
              </a:rPr>
              <a:t>That llama is older than that one (far away)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ad2e2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ad2e27"/>
                </a:solidFill>
                <a:latin typeface="Lucida Sans Unicode"/>
              </a:rPr>
              <a:t>Esa llama es mayor que aquélla. 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1" name="Title 2" descr=""/>
          <p:cNvPicPr/>
          <p:nvPr/>
        </p:nvPicPr>
        <p:blipFill>
          <a:blip r:embed="rId1"/>
          <a:stretch/>
        </p:blipFill>
        <p:spPr>
          <a:xfrm>
            <a:off x="79200" y="274680"/>
            <a:ext cx="8229600" cy="12430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3" descr="C:\Users\Heather\AppData\Local\Microsoft\Windows\Temporary Internet Files\Content.IE5\WIHT2B2Q\MP900444280[2].jpg"/>
          <p:cNvPicPr/>
          <p:nvPr/>
        </p:nvPicPr>
        <p:blipFill>
          <a:blip r:embed="rId2"/>
          <a:stretch/>
        </p:blipFill>
        <p:spPr>
          <a:xfrm>
            <a:off x="5964120" y="4724280"/>
            <a:ext cx="310356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1" dur="2000"/>
                                        <p:tgtEl>
                                          <p:spTgt spid="4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1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6" dur="2000"/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1" dur="2000"/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26" dur="2000"/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6" dur="2000"/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2T01:01:21Z</dcterms:created>
  <dc:creator>Heather Heffernen</dc:creator>
  <dc:description/>
  <dc:language>en-US</dc:language>
  <cp:lastModifiedBy>Prine, Stephanie</cp:lastModifiedBy>
  <dcterms:modified xsi:type="dcterms:W3CDTF">2013-01-23T18:35:48Z</dcterms:modified>
  <cp:revision>10</cp:revision>
  <dc:subject/>
  <dc:title>La Práctica: Demonstrative Adjectives &amp; Pronouns</dc:title>
</cp:coreProperties>
</file>